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6BA-DAD1-479A-BEC8-6473FED9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0F8-ED00-4CDF-BB77-87779048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61D-1A21-4655-8368-904CEB87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D84-3537-4941-BDD3-D7A00C70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76D64-CC00-4FD9-84C6-197A27C8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493DD-EFC8-4E2E-BA52-3A833191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5A993-1B84-48C1-AE2E-12D6348A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D5DBB-139F-4BAC-A40D-1F0A50DD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C22EC-2C9D-4F28-B699-1FDE7D4E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F2130-6695-4BBB-9DD0-2F80049E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9DA5F-11DE-4518-8D1A-C1BFAB1C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EB3-E875-485D-8FD2-9663C0A0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CEFAA-1D70-4471-B9FA-9E6A40B9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BB6BE-E218-4F7E-AAC3-6D991A65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07103-A441-4EA2-8306-C034FF97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58E15-3518-4DF3-8C3D-2B74FC6A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D519A-BB83-43DB-9D3D-AC7DA433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557-058C-403F-B01A-73E86966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33C-5FF8-4933-8539-7149A5B4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E15-D727-4C06-8A2A-27F95A8C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DE8-364F-407A-8742-6E273C29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594-0B43-471F-8231-3A4B9F4A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53C-921C-4184-83B9-3196FECD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021-A6B1-4E17-AF5E-64A378C9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48CA-087A-457D-B61A-96BD6AD4A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78E1-4C64-41B9-B58C-EC68E4FDE4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E:/TITANIC%20project/Titanic__Anatomy_of_a_Disaster.as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Titan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L’Anatomy d’un Désast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MSj03882890000[1].wav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659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18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isez une barre analogique montrant les passagers de premier, de deux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è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t de troisième classe, en utilisant les nombres à la page 15 de votre tex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19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ez maintenant votre barre avec celui de votre texte. Qu’est-ce que vous remarquez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s Res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e de sciences humaines, pages 14 – 1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deo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itanic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Anatomy of a Disas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’Interne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e Titan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Ceci est un projet de recherche qui incorpore votre texte, des vid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  <a:ea typeface="Tahoma"/>
              </a:rPr>
              <a:t>éos, et l’intern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Le projet peut se faire en groupe de 2 maximu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L’enseignant a le droit de diviser/s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parer les groupes si les r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  <a:ea typeface="Tahoma"/>
              </a:rPr>
              <a:t>èglements ne sont pas suivit. Ne pas respecter les 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  <a:ea typeface="Tahoma"/>
              </a:rPr>
              <a:t>èglements indique que tu veux faire le projet par toi-mêm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âch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rechercher et documenter de l’information sur le Titanic.  Utilise toutes les sources données, et ensuite documente l’information. Divise les question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galement entre les membres du group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’est une bonne 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e de prendre des notes durant le processus de recherche. (en lisant, regardant le film, 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que membre est responsable pour rechercher TOUTES les sources (texte, vi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éo, internet) puisque l’information se trouve à travers le média, et non pas dans un endroit seu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que membre devrait guarder en note toute l’information trou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é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insi que l’endroit 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ù l’information se trouv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sque vous avez trou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é assez d’information pour répondre à vos questions, il faut organiser vos trouvailles dans votre projet final.  L’utilisation d’images est aussi encouragé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6" descr="MCj02925940000[1]"/>
          <p:cNvPicPr/>
          <p:nvPr/>
        </p:nvPicPr>
        <p:blipFill>
          <a:blip r:embed="rId1"/>
          <a:stretch/>
        </p:blipFill>
        <p:spPr>
          <a:xfrm>
            <a:off x="3809880" y="50292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s Question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1912, quel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était le prix pour une cabine de 3 chambres avec une promenade sur le Titanic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lle classe avait le droit d’occuper une cabine de 3 chambre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bien d`étages avait le Titanic?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bien d’ascenseurs  y avait-il dans chaque classe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’est-ce qui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était utilisé pour glisser le Titanic dans l’eau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bien de temps est-ce que cela à pris pour glisser le Titanic dans l’eau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ls items, incluant la nourriture, o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té pris durant le premier voyage du Titanic?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un résumé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mbien de personnes riches se trouvaient en prem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è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lasse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tait la personne la plus riche abord le Titanic? Ce personne a-t-il/elle survéc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lle est la position absolue de l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pave du Titanic?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coordonée géographiqu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66720" y="-258120"/>
            <a:ext cx="434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11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Quelle date Titanic est-il descend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12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Qu’est-ce qui a ca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 la descente du Titanic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13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mbien de personnes ont sur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cu? Combien de personnes sont morts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14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quelle classe plus de personnes sont-elles mortes ? Viva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15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Quels progrès technologiques ont été présentés pour la  première fois sur Titanic 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16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l était l'itinéraire pris par Titanic avant la descente (conseil : Elle a fait trois arrêts, y compris le fond océanique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17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utilisant GoogleEarth, sauve un image montrant les arrêts du Titan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46:23Z</dcterms:created>
  <dc:creator>Administrator</dc:creator>
  <dc:description/>
  <dc:language>en-US</dc:language>
  <cp:lastModifiedBy>ED18</cp:lastModifiedBy>
  <dcterms:modified xsi:type="dcterms:W3CDTF">2014-12-08T01:56:42Z</dcterms:modified>
  <cp:revision>35</cp:revision>
  <dc:subject/>
  <dc:title>Titanic</dc:title>
</cp:coreProperties>
</file>